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A853-1675-447E-A0B2-A20BEE81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0CF-89AD-4812-8242-4F7FD902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E10-67FF-446B-B40A-A62ABBFF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12A-8CA0-492F-B594-121E778B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26C-65A2-4B67-8F98-576F9381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3A0-6DFA-419C-BED1-AC8807CD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A286-660C-4F75-91BD-A20D82F5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B87-07FF-4613-A6D7-DB72E075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B4F-8F43-428A-AE57-2C494806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65A-9CA1-48D6-8A35-1661560A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F894-C661-4BC0-A6F5-43D16081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7AD-9AE7-4D28-B561-A8E172A3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D607-052C-47EB-9EE6-F12C599B60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4400" y="457200"/>
            <a:ext cx="172440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-Power Me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025640"/>
            <a:ext cx="1752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5960" y="1600200"/>
            <a:ext cx="17607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CH-P-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70080" y="4140360"/>
            <a:ext cx="224460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4952880"/>
            <a:ext cx="190476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84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840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1680" y="457200"/>
            <a:ext cx="175824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ro-Span M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02564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72072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8968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Zero-Span-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4196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2600" y="4140360"/>
            <a:ext cx="231624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Zero-Span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952880"/>
            <a:ext cx="190512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4196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5792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236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371600"/>
            <a:ext cx="1752480" cy="5806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e 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648320" y="25905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4191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840" y="38098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.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9526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562120"/>
            <a:ext cx="0" cy="4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3148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924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9076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9076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06632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06668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049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87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600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324480" y="456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57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457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06668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196200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5527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332424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9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39080" y="4762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4844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90760" y="477216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3908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56236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56272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743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0720" y="2666880"/>
            <a:ext cx="8863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4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6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dB st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97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69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480" y="4680"/>
            <a:ext cx="36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oftware Flow Chart of Power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73840" y="11160"/>
            <a:ext cx="31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ample Software : ADVAN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6:55:12Z</dcterms:created>
  <dc:creator>hirakoso</dc:creator>
  <dc:description/>
  <dc:language>en-US</dc:language>
  <cp:lastModifiedBy>hirakoso</cp:lastModifiedBy>
  <dcterms:modified xsi:type="dcterms:W3CDTF">2005-12-07T01:09:24Z</dcterms:modified>
  <cp:revision>16</cp:revision>
  <dc:subject/>
  <dc:title>PowerPoint プレゼンテーション</dc:title>
</cp:coreProperties>
</file>